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AC6E-3785-4535-95F2-D3DDFE98D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72B7-7C15-4117-BDA9-A9E2E33B2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41264-E7E5-47FD-A2F5-25175655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AA18-3760-4843-A19F-0F217A3EA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FF569-A8BB-47E2-AA80-610C678841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77A21-9011-4658-9C23-166D8ECA3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3EEB2-A1B5-4017-A4C2-D2E48EFE2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7358B-76C6-48D9-A980-9DBD34BC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1173C-9240-4319-A9A7-F07FE3D3A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F19A33-6B42-4638-B2A4-E93A8A868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F7475-0327-408D-8DD3-23A712AA7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7544-AE50-49A4-9ED8-1C76A79B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D6B86-E0F4-4B84-8423-FC94A476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7827C-314B-483C-AB66-89C7AB360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732C8-7D81-47F4-B96A-8D3DE5BB6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41EC-7796-4BA5-9455-F60F9779A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955C2-7232-4FB0-A384-1EFC843C3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0687-A549-4DDE-9A97-E8382F5C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76F9-5B92-471E-AC4F-834E8BBF4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EBDA-C393-49A1-ADC7-E9D8BC4F9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B13D-B3EB-41F4-BAB2-839E65DA7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B101F-4D0B-4A32-86A0-69DD553F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52A-D72E-40F5-B847-D6F4188D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B978-4F45-4C75-85AC-B2711915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7A5D11-C231-4C91-828A-0A2FE3CB6FEE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0ABF-4106-4850-8B4E-DE555A53E667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milymebel.ru/images/kak_pravilno_sidet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500040" y="514368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втор учитель русского языка и литературы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У Петропавловская СОШ п.Петропавловски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елябинской области Облакова С.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85880" y="142884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АНАЛИЗ УРОКА С ПОЗИЦИЙ ЗДОРОВЬЕСБЕРЕЖЕНИЯ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324000" y="501336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11640" y="321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539640" y="404640"/>
            <a:ext cx="8201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ой здоровьесберегающих технологий являетс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людение следующих принцип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24000" y="1773360"/>
            <a:ext cx="835164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1187280" y="191628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т состояния здоровья школьника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го психофизических особенносте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выбор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орм, методов, средст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50920" y="328464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WordArt 10" descr=""/>
          <p:cNvPicPr/>
          <p:nvPr/>
        </p:nvPicPr>
        <p:blipFill>
          <a:blip r:embed="rId1"/>
          <a:stretch/>
        </p:blipFill>
        <p:spPr>
          <a:xfrm>
            <a:off x="530280" y="3419640"/>
            <a:ext cx="7967520" cy="1055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2"/>
          <p:cNvSpPr txBox="1"/>
          <p:nvPr/>
        </p:nvSpPr>
        <p:spPr>
          <a:xfrm>
            <a:off x="684360" y="5084640"/>
            <a:ext cx="777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пользование здоровьесберегающих действи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сохранения работоспособ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расширения функциональных возможностей организм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85840" y="285768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личество видов учебной деятельност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х смен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тельность и чередовани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лечения от учебной работы 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857840" y="30002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е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сьм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уша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каз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наглядностью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ИК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ет на вопрос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полнение упражнени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643800" y="1428840"/>
            <a:ext cx="73080" cy="792000"/>
          </a:xfrm>
          <a:prstGeom prst="downArrow">
            <a:avLst>
              <a:gd name="adj1" fmla="val 50000"/>
              <a:gd name="adj2" fmla="val 2709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715000" y="2286000"/>
            <a:ext cx="310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ередование вид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ебной деятель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500040" y="2286000"/>
            <a:ext cx="4175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птимальная плотность урок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2857680" y="1428840"/>
            <a:ext cx="72720" cy="792000"/>
          </a:xfrm>
          <a:prstGeom prst="downArrow">
            <a:avLst>
              <a:gd name="adj1" fmla="val 50000"/>
              <a:gd name="adj2" fmla="val 272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28760" y="35712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доровьесберегательные действия учителя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и организации учебной деятельности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981000"/>
          <a:ext cx="8209080" cy="5883480"/>
        </p:xfrm>
        <a:graphic>
          <a:graphicData uri="http://schemas.openxmlformats.org/drawingml/2006/table">
            <a:tbl>
              <a:tblPr/>
              <a:tblGrid>
                <a:gridCol w="2874960"/>
                <a:gridCol w="1755720"/>
                <a:gridCol w="1758960"/>
                <a:gridCol w="181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лотность урока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60% и не более 75-8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-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7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редняя продолжительность различных видов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 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астота чередования различных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не позже чем 7-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деятельност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3-х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видов преподаван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позже чем 10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чередуетс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и длительность применения ИК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ответствует нормам СанПин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чно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51"/>
          <p:cNvSpPr/>
          <p:nvPr/>
        </p:nvSpPr>
        <p:spPr>
          <a:xfrm>
            <a:off x="714240" y="35712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птимальная плотность урока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1214280"/>
          <a:ext cx="8497800" cy="5131080"/>
        </p:xfrm>
        <a:graphic>
          <a:graphicData uri="http://schemas.openxmlformats.org/drawingml/2006/table">
            <a:tbl>
              <a:tblPr/>
              <a:tblGrid>
                <a:gridCol w="2604960"/>
                <a:gridCol w="2038320"/>
                <a:gridCol w="2214720"/>
                <a:gridCol w="1639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позы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чередуется в соответствии с видом работы. Учитель наблюдает за посадкой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меются случаи несоответствия позы виду работы. Учитель иногда контролирует посадку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не контролируется учителем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аличие, место, содержание и продолжительность физкультминуток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 20-35 мин. урока по 1 мин. из 3-х легких упражнений 3-4 повторениями каждог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физминутка  с неправильным содержанием и продолжительностью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тсутствует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мент наступления утомления учащихся по снижению учебной актив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4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35-37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3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32"/>
          <p:cNvSpPr/>
          <p:nvPr/>
        </p:nvSpPr>
        <p:spPr>
          <a:xfrm>
            <a:off x="785880" y="4287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доровьесберегающие действия учителя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14200" y="476280"/>
            <a:ext cx="8929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авильная поза ученика во время занятий за столом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на сиденья стула должна соответствовать длине бедер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сота ножек стула должна равняться длине голени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леностопный, коленный, тазобедренный суставы при сидении образуют прямой угол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жду краем стола и грудной клеткой сидящего ученика необходимо выдерживать расстояние равное ширине кисти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тояние от глаз до стола (тетради, книги) соответствует 30-35 см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традь при письме должна лежать на столе под углом 30 градусов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артинка 5 из 8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14800" y="5572080"/>
            <a:ext cx="25002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714240" y="428760"/>
            <a:ext cx="84297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0" y="19371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личие мотивации к учебной деятельности на уроке: интерес к занятиям, стремление больше узнать, радость от активности, интерес к изучаемому материалу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 Отсутствие микроконфликтов между учителем и учащимися: из-за нарушений дисциплины, несогласия с отметкой, проявления дискомфортных состоян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. Умение учителя предупредить эмоционально-негативные «всполохи», грамотно их нейтрализовать без нарушения работы всего класс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1805400"/>
            <a:ext cx="9144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. Выражение лица учителя, проявление различных эмоций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5. Урок неполноценен, если на нем не было эмоционально-смысловых разрядок: улыбок, уместных остроумных шуток и т.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. Мотивация учащихся на сохранение и укрепление здоровья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357120" y="214200"/>
            <a:ext cx="85010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071720" y="549360"/>
            <a:ext cx="735804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нитарно-гигиенические услов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ного помещ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50920" y="180288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пература, свежесть воздух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освещение класса и доск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использование образовательного пространства класса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истота и порядок в кабинете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зеленение кабинет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сутствие раздражител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08:03:48Z</dcterms:created>
  <dc:creator>ученик 4_2</dc:creator>
  <dc:description/>
  <dc:language>en-US</dc:language>
  <cp:lastModifiedBy>Admin</cp:lastModifiedBy>
  <dcterms:modified xsi:type="dcterms:W3CDTF">2011-10-18T11:23:52Z</dcterms:modified>
  <cp:revision>10</cp:revision>
  <dc:subject/>
  <dc:title>Слайд 1</dc:title>
</cp:coreProperties>
</file>